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0839-5F8B-4F55-9CAD-2599410A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A76F-6E1C-41F6-9791-E3311F1E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A78B-260E-46A4-951B-DAE5D990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243-E2B5-475B-AFAD-8D1F1276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712-B5EF-4316-A3FA-00FA6526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16DE-5241-485B-9BD5-E647C9D7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1388-4C09-45E4-AB84-171CF8FE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A226-C084-418B-9C88-0DCE6AD6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267-32EB-4E1B-AE44-6B948236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C655-11F4-4C84-8539-E1365DC9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0042-0EC0-4EA8-AD49-93904F61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BDF-6F36-4AE1-9D98-07EB2DE6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9E8B-D4CC-4CFD-9E7B-3974374E2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685800"/>
            <a:ext cx="6324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ing your Class Rosters and Gradebook on th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032280"/>
            <a:ext cx="9144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1456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8320" y="4572000"/>
            <a:ext cx="3962160" cy="1564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the time now to write down the drive name, the school number, and your teacher num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ve Name:  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 Folder #:  ___ Teacher Folder #:  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1600200"/>
            <a:ext cx="2971800" cy="442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are now asked to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mport a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op down the menu and choose the networked drive entitl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on Fs-xxx-1\Vol1\Apps|Ig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where xxx is a 3 letter school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    Open the numbered school folder  then your numbered teacher fol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   Choose the file Cl ###   Click Open (where ## is your teac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umb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4304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3962160" cy="271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4:07:05Z</dcterms:created>
  <dc:creator>Anne Higman</dc:creator>
  <dc:description/>
  <dc:language>en-US</dc:language>
  <cp:lastModifiedBy>Anne Higman</cp:lastModifiedBy>
  <dcterms:modified xsi:type="dcterms:W3CDTF">2006-11-21T14:07:16Z</dcterms:modified>
  <cp:revision>1</cp:revision>
  <dc:subject/>
  <dc:title>Slide 1</dc:title>
</cp:coreProperties>
</file>